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3916-9518-49D3-98F5-D50B04DF20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7A91-A457-4908-93C3-E237568D27A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15D8-5585-47E5-82E6-7CB85931D4D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93D8-8E8C-49E0-9A0D-7050FCEBE24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997C-221B-47F4-A4D0-F64F21A36A4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A07F-2148-472D-A32C-B7254994A69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DB83-C8A7-4FAD-991D-3FB1A4AD143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9B55-1D7E-4223-89CC-D1176CF01CB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3465-1436-4D44-9ADB-E65376F6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2924-E6EE-4D52-9808-44668172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24B3-CE6E-4308-9395-AABA387D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F2F3-2296-4640-B477-4E017920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03A0-86EC-47EE-B8B1-64F2AB00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E30C-EE45-4307-B9E9-A0EB0AB0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0391-2B87-45B8-86B0-07759B89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A564-EB8F-4198-8C2D-B9F65B23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6F2F-BCDA-4BA2-A847-A6AC2DB8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4CED-85E6-4E77-BE6E-3C065989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EF11-C8D6-4D92-AC0D-7AE384EC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F03C-1C2B-4065-AF58-1E168A1D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162EC-5B34-4B0A-98AE-B2AC039C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7DD9-C4CA-42B5-9EE9-E2204B85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8326-0F51-4F84-8FD2-273A0895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FA8A-942F-448B-B0B4-BE1DD9985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B018-9C37-478D-89A6-14F397A1D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47F2-A584-42C8-B238-6323E8080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D272-3A05-4D88-8842-A25AE77F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A409-4D09-4F7E-8EBA-5D31759F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A572-DED5-4623-88B0-E6376251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9350-F59C-4A18-AC17-7019E29E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2A9D-FCE6-4A58-A85C-4B21A6B0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7546-4C65-4583-B9A0-2272C3DF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3FC7-F01E-46BA-B55C-375ABF5E06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6C74-D433-40FC-88D2-CAECFF7BE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B079-997B-43FB-9337-92B7AA31EA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1389-C4F0-4970-A3B7-6213AF47AD3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r.wikipedia.org/wiki/Slika:Flag_of_Bosnia_and_Herzegovina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Bk-map.pn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4400" spc="-1" strike="noStrike">
                <a:solidFill>
                  <a:srgbClr val="000000"/>
                </a:solidFill>
                <a:latin typeface="Calibri"/>
              </a:rPr>
              <a:t>Bosnia and Herzegovi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4" descr="Zastava Bosne i Hercegovin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2000160"/>
            <a:ext cx="5572080" cy="315936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8B26-D9E7-4DBB-AC2F-5F9A66019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8033-DA99-4EC3-8E1C-8BC95A4503C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igures</a:t>
            </a:r>
            <a:br>
              <a:rPr sz="1100"/>
            </a:br>
            <a:br>
              <a:rPr sz="1100"/>
            </a:b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(in mio KM)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1100" spc="-1" strike="noStrike">
                <a:solidFill>
                  <a:srgbClr val="000000"/>
                </a:solidFill>
                <a:latin typeface="Calibri"/>
              </a:rPr>
              <a:t>Source: Banking Agencies of FBiH and R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14240" y="1714680"/>
          <a:ext cx="7858440" cy="3857400"/>
        </p:xfrm>
        <a:graphic>
          <a:graphicData uri="http://schemas.openxmlformats.org/drawingml/2006/table">
            <a:tbl>
              <a:tblPr/>
              <a:tblGrid>
                <a:gridCol w="642960"/>
                <a:gridCol w="1857600"/>
                <a:gridCol w="1285920"/>
                <a:gridCol w="1285560"/>
                <a:gridCol w="1214640"/>
                <a:gridCol w="857160"/>
                <a:gridCol w="714600"/>
              </a:tblGrid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1.12.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6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0.9.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Ind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2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 PosterCompressed"/>
                        </a:rPr>
                        <a:t>3/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s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.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.2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oa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7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3.6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2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37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0.8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pos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4.90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5.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capi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1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75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6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82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 expendi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1.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985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et prof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8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4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doni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F Stand-by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enna initiative 6+3 (mother banks to keep exposure with B&amp;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umer protection legislation –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high expectation from banking sect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ptable results of first stress 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PL increased, but still acceptable (2,8% Q2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e of income with increased interest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ing – reduced and more expen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EDF3-1E05-4A80-A8F6-40A16B7C364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esent challang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5712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ounded in 2004, fully indepen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First Association on stat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tely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self funded by member ban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ll registered banks in full memb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Organized trough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Board of Dire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Executive Secret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9 Commissions for different fiel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OUR MISSION</a:t>
            </a:r>
            <a:r>
              <a:rPr b="1" lang="hr-HR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improve and develope close cooperation among th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member bank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o establish partnership with state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institutions, supervisors and legislators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Public relations and media communicatio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Edu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cation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-T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o  cooperate with similar institutions in the country and abro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5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BE31-F8B7-456B-B6F7-85F1389062E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Banking</a:t>
            </a:r>
            <a:r>
              <a:rPr b="1" lang="hr-HR" sz="2500" spc="-1" strike="noStrike">
                <a:solidFill>
                  <a:srgbClr val="000000"/>
                </a:solidFill>
                <a:latin typeface="Calibri"/>
              </a:rPr>
              <a:t> Association of Bosnia and Herzegovina</a:t>
            </a:r>
            <a:br>
              <a:rPr sz="25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Profile</a:t>
            </a:r>
            <a:br>
              <a:rPr sz="25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71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be fully dedicated to the spirit of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membership with EB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al support and know-how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hange of information and expertise in legislation, good banking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DD70-EFC8-4AFC-99C5-A71FA9CDF70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anks for your confiden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3124080" y="6356520"/>
            <a:ext cx="409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630F-50DD-477F-8790-A38BF1CF7CD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24_05_2006_clip_image002"/>
          <p:cNvPicPr/>
          <p:nvPr/>
        </p:nvPicPr>
        <p:blipFill>
          <a:blip r:embed="rId1"/>
          <a:stretch/>
        </p:blipFill>
        <p:spPr>
          <a:xfrm>
            <a:off x="2928960" y="4214880"/>
            <a:ext cx="297180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70c0"/>
                </a:solidFill>
                <a:latin typeface="Calibri"/>
              </a:rPr>
              <a:t>UBBiH   </a:t>
            </a:r>
            <a:r>
              <a:rPr b="1" lang="en-US" sz="11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ŽENJE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UDRUGA BANAKA BOSNE I HERCEGOVIN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УДРУЖЕЊЕ БАНАКА БОСНE И ХЕРЦЕГОВИНE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BANKS ASSOCIATION OF BOSNIA AND HERZEGOVINA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Branilaca Sarajeva 20/III, 71000 Sarajevo, Bosna i Hercegovina, Tel: (387 33) 714 630, Fax: (387 33) 714 631</a:t>
            </a:r>
            <a:br>
              <a:rPr sz="1100"/>
            </a:b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www.ubbih.ba</a:t>
            </a:r>
            <a:br>
              <a:rPr sz="2400"/>
            </a:br>
            <a:br>
              <a:rPr sz="2400"/>
            </a:br>
            <a:br>
              <a:rPr sz="1600"/>
            </a:br>
            <a:br>
              <a:rPr sz="1600"/>
            </a:b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THE ECONOMY AND BANKING SECTOR  IN  BOSNIA AND HERZEGOVINA </a:t>
            </a:r>
            <a:br>
              <a:rPr sz="3200"/>
            </a:br>
            <a:br>
              <a:rPr sz="3200"/>
            </a:b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r. Dino Osmanbegović, Presid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240" y="5143320"/>
            <a:ext cx="69152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4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6" name="Rectangle 4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09EB-1E3F-499E-B88A-6BAEC0B4F15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43160" y="5929200"/>
            <a:ext cx="4071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8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68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UMMA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.  B&amp;H in bri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y Macroeconomic D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jor Ris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I Banking Indus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gur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esent Challeng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V Banking Association of Bosnia and Herzegov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fi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ur expecta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0E9A-7E98-4FAD-8AC0-BEBB7F68F9E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35652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hr-HR" sz="16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br>
              <a:rPr sz="29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General 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ulation: 3,8 mio (est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pital: Saraje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: 51.197 km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rency (€1 = KM1.9558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lex stat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 n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 entities+1 distri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 govern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75EC-6605-49C3-9487-DADF4977270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Map of Bosnia and Herzegovin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928800"/>
            <a:ext cx="5473440" cy="4824360"/>
          </a:xfrm>
          <a:prstGeom prst="rect">
            <a:avLst/>
          </a:prstGeom>
          <a:ln w="0">
            <a:noFill/>
          </a:ln>
        </p:spPr>
      </p:pic>
      <p:sp>
        <p:nvSpPr>
          <p:cNvPr id="106" name="Footer Placeholder 5"/>
          <p:cNvSpPr/>
          <p:nvPr/>
        </p:nvSpPr>
        <p:spPr>
          <a:xfrm>
            <a:off x="3124080" y="6356520"/>
            <a:ext cx="416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B&amp;H in brie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croeconomic landsca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ral Bank of B&amp;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urrency Board Arran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Mandatory  Reser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nking Super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 banking agencies (still separate but coordinat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latively conservative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ministration for indirect taxation (VAT and custo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entralized collection with entity level distribu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taxation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corporate income, personal) on entity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2379-F5AD-4EDD-9065-A960178DA4F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71280"/>
            <a:ext cx="82296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bs-BA" sz="2800" spc="-1" strike="noStrike">
                <a:solidFill>
                  <a:srgbClr val="000000"/>
                </a:solidFill>
                <a:latin typeface="Calibri"/>
              </a:rPr>
              <a:t>I  B&amp;H in brief</a:t>
            </a:r>
            <a:br>
              <a:rPr sz="1400"/>
            </a:b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Key  Macroeconomic Data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bs-BA" sz="1200" spc="-1" strike="noStrike">
                <a:solidFill>
                  <a:srgbClr val="000000"/>
                </a:solidFill>
                <a:latin typeface="Calibri"/>
              </a:rPr>
              <a:t>Data Source: Thomson </a:t>
            </a:r>
            <a:r>
              <a:rPr b="0" lang="bs-BA" sz="1400" spc="-1" strike="noStrike">
                <a:solidFill>
                  <a:srgbClr val="000000"/>
                </a:solidFill>
                <a:latin typeface="Calibri"/>
              </a:rPr>
              <a:t>Reuters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71680" y="6000840"/>
            <a:ext cx="4906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00040" y="928800"/>
          <a:ext cx="8072640" cy="5475240"/>
        </p:xfrm>
        <a:graphic>
          <a:graphicData uri="http://schemas.openxmlformats.org/drawingml/2006/table">
            <a:tbl>
              <a:tblPr/>
              <a:tblGrid>
                <a:gridCol w="2639880"/>
                <a:gridCol w="981360"/>
                <a:gridCol w="981000"/>
                <a:gridCol w="1131840"/>
                <a:gridCol w="1149480"/>
                <a:gridCol w="1189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09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16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010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Nominal GDP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Real GDP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Household consumption (real, 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Industrial output (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0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onsumer prices (avg.% yo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Unemployment rate  (avg, 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General budge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urrent Account balance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9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-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Public debt (% of GD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4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Official FX reserves (EUR b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1789-7590-4E85-A9DD-463F89F11CC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2357280" y="6492960"/>
            <a:ext cx="4143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00040" y="85716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&amp;H in br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jor Macroeconomic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DP growth-present negative with forecasted very low 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dget deficit-still over IMF Stand-by Agrm. Targ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of Current Account Deficit-despite of significant reduction of both export and impor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dit portfolio volume-reduced for 2%, compared to 27% growth in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itive ligh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 algn="just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FX risk and controlled inflation, due to the Currency Bo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160" indent="-5601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F3E1-6772-4D68-AF16-1651F044D94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356520"/>
            <a:ext cx="3948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20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00040" y="857160"/>
            <a:ext cx="84297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Calibri"/>
              </a:rPr>
              <a:t>II Financial Sector in B&amp;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Size and structure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bs-BA" sz="1100" spc="-1" strike="noStrike">
                <a:solidFill>
                  <a:srgbClr val="000000"/>
                </a:solidFill>
                <a:latin typeface="Calibri"/>
              </a:rPr>
              <a:t>Source: Central Bank B&amp;H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7AFF-153F-4876-832C-33F6FC7B091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85840" y="2000160"/>
          <a:ext cx="8358120" cy="3071880"/>
        </p:xfrm>
        <a:graphic>
          <a:graphicData uri="http://schemas.openxmlformats.org/drawingml/2006/table">
            <a:tbl>
              <a:tblPr/>
              <a:tblGrid>
                <a:gridCol w="2431800"/>
                <a:gridCol w="739800"/>
                <a:gridCol w="741600"/>
                <a:gridCol w="741240"/>
                <a:gridCol w="739800"/>
                <a:gridCol w="741240"/>
                <a:gridCol w="741600"/>
                <a:gridCol w="739800"/>
                <a:gridCol w="741240"/>
              </a:tblGrid>
              <a:tr h="285120">
                <a:tc rowSpan="2">
                  <a:txBody>
                    <a:bodyPr lIns="90000" rIns="900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k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deada"/>
                    </a:solidFill>
                  </a:tcPr>
                </a:tc>
              </a:tr>
              <a:tr h="3193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ment fund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asing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urance and reinsurance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crocredit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,</a:t>
                      </a:r>
                      <a:r>
                        <a:rPr b="0" lang="bs-B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Footer Placeholder 5"/>
          <p:cNvSpPr/>
          <p:nvPr/>
        </p:nvSpPr>
        <p:spPr>
          <a:xfrm>
            <a:off x="3000240" y="6286680"/>
            <a:ext cx="401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80% of Financial Sec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1 Registered Bank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ederation BiH, 19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ublic of Srpska 10 ba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 Banks under Administ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90% foreign own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75% of total assets with 4 key play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% of GDP penetr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evant share of retail loan portfol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igh capital adequacy ratio (CAR) – over 16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w profitabilit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oter Placeholder 5"/>
          <p:cNvSpPr/>
          <p:nvPr/>
        </p:nvSpPr>
        <p:spPr>
          <a:xfrm>
            <a:off x="3124080" y="6356520"/>
            <a:ext cx="387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uropean Banking Federation Brussels, December 3rd 2009 29th Associate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FFF9-BC46-4DF3-BFB5-6E1443A4419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Calibri"/>
              </a:rPr>
              <a:t>III Banking industry 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Calibri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35948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9:58:07Z</dcterms:created>
  <dc:creator>samir</dc:creator>
  <dc:description/>
  <dc:language>en-US</dc:language>
  <cp:lastModifiedBy>samir</cp:lastModifiedBy>
  <dcterms:modified xsi:type="dcterms:W3CDTF">2009-12-03T13:34:02Z</dcterms:modified>
  <cp:revision>32</cp:revision>
  <dc:subject/>
  <dc:title>Bosnia and Herzegovina </dc:title>
</cp:coreProperties>
</file>